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3275-E1A0-4344-B8E4-93E10F3A9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B4AF-6D5A-46E5-8CF4-D2DC51296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E9BE-E6F1-4D10-B521-4DC94D48E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6852-2B08-45D7-8CB7-CF734EF48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8C270-92CC-41C4-A003-59BD5828A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EAFC0-3453-4717-AE09-AA3990BA2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2E26A-25AA-4597-B4BB-F49AF4EE2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8C09D-F060-46CA-A69C-A05D9757F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84A09-E296-45F9-8192-EDC735141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B6444-6080-41EC-8B42-9EE770F82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3088C-E53E-4A09-AA03-B504820A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5670-2284-49A6-BA35-8BA1D5AC0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54394-20D8-4554-A7B2-DD2F6F3B7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4C0E9-93C5-4AB5-BB20-DAB38F431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05E7E-C9AD-45CE-9B06-34D31120D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F5380-FC75-4B44-9B6E-25225CB92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B0A9A-3267-4094-A0B4-12371BB25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8CD7-D302-4BC2-A25C-29440FFB2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EB94-8ADC-49AC-9810-1DA810FEB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3D5E-4393-49F8-BC36-95960F012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6272-D391-452F-8F49-097412100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C918-869B-40FD-ABAB-9A08FA6E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AD5F-69F6-48DA-9A59-EB5272FC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59C4-B58C-4469-B3E0-C3C3DC8A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31CB5-C32D-4BC9-9288-41FB44BAC5E0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DE07B-4DF4-46BC-B5FB-E3B2D758C208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763640" y="330120"/>
            <a:ext cx="5907240" cy="67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Romance de Fajardo (fronterizo a. 1466 ó 1477</a:t>
            </a:r>
            <a:r>
              <a:rPr b="0" lang="es-MX" sz="1800" spc="-1" strike="noStrike">
                <a:solidFill>
                  <a:srgbClr val="2f1311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“</a:t>
            </a: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Jugando estaba el rey moro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y aun al ajedrez un día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con aqueste buen fajardo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con amor que le tenía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Fajardo jugaba Lorca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y el rey moro, Almería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jaque le dio con el roque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el alférez le prendía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A grandes voces dice el moro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-“La villa de Lorca es mía”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Allí  hablara Fajardo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bien oiréis lo que decía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-“Calles, calles, señor rey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no toméis la tal porfía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que aunque me la ganases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ella no se te daría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caballeros tengo dentro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247840" y="61740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377360" y="690480"/>
            <a:ext cx="34192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que te la defenderían”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Allí hablara rey moro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bien oiréis lo que decía 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-“No juguemos más, Fajardo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ni tengamos más porfía,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que sois tan buen caballero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que todo el mundo os temía”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8T22:25:03Z</dcterms:created>
  <dc:creator> </dc:creator>
  <dc:description/>
  <dc:language>en-US</dc:language>
  <cp:lastModifiedBy> </cp:lastModifiedBy>
  <dcterms:modified xsi:type="dcterms:W3CDTF">2007-09-28T22:44:30Z</dcterms:modified>
  <cp:revision>2</cp:revision>
  <dc:subject/>
  <dc:title>Diapositiva 1</dc:title>
</cp:coreProperties>
</file>